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2.gif" ContentType="image/gif"/>
  <Override PartName="/ppt/media/Tarda.wav" ContentType="audio/x-wav"/>
  <Override PartName="/ppt/media/sting.wav" ContentType="audio/x-wav"/>
  <Override PartName="/ppt/media/drumroll.wav" ContentType="audio/x-wav"/>
  <Override PartName="/ppt/media/cashreg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23E-EEE6-4FA2-B7ED-2D397C14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EAE-2A37-408D-A2B5-A171A330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9EB-DEAB-46DD-AC3B-17FCE96C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C4A-171F-4507-BA09-66BFAEE5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3A1-CC83-4CFF-A337-EB794D02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9D8-1C8A-4C1C-80D5-E6A4BC44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F54-84F3-49C9-8D40-DFCC3DB2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5CD-EF37-4213-AC8D-0C122C1D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4F2-C2CF-4FF0-A2BC-E9A0B457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C34-B26C-48FC-BFE5-8F91DC13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95F-A91A-4D18-BE6D-08DA3932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0039-4659-4191-AF15-6C6B9B93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E2C5-25C9-4E6E-959A-17AA9482B3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sting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Ravie"/>
              </a:rPr>
              <a:t>Who Wants To Be A Millionaire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057400" y="2743200"/>
            <a:ext cx="46483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Ravie"/>
              </a:rPr>
              <a:t>Year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Ravie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6" descr="ag00317_"/>
          <p:cNvPicPr/>
          <p:nvPr/>
        </p:nvPicPr>
        <p:blipFill>
          <a:blip r:embed="rId1"/>
          <a:stretch/>
        </p:blipFill>
        <p:spPr>
          <a:xfrm>
            <a:off x="6781680" y="3505320"/>
            <a:ext cx="172080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ag00315_"/>
          <p:cNvPicPr/>
          <p:nvPr/>
        </p:nvPicPr>
        <p:blipFill>
          <a:blip r:embed="rId2"/>
          <a:stretch/>
        </p:blipFill>
        <p:spPr>
          <a:xfrm>
            <a:off x="457200" y="3809880"/>
            <a:ext cx="1754280" cy="198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sti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is the name for ‘making food’ done by pla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hotograp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honograp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hono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is the name for ‘making food’ done by pla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hotograp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honograp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honosynthe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ich gas is taken in by plants to make food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nitr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ich gas is taken in by plants to make food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nitr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ere does the plant take in carbon dioxid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hrough its roo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hrough its flow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rough its trun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hrough its leav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ere does the plant take in carbon dioxid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hrough its roo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hrough its flow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rough its trun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hrough its leav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other material needed by plants to make fo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other material needed by plants to make fo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ich type of energy is used by the plant when making fo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sou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electric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ich type of energy is used by the plant when making fo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sou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electric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is the main colour of the plant pigment which absorbs ligh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yell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ere does this energy come fro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ere does this energy come fro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8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name of the waste gas given out in photosynthes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nitr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name of the waste gas given out in photosynthes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nitr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6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y do water lilies have large leaves?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o absorb lots of 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o absorb lots of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o shelter from rai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o catch fl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is the main colour of the plant pigment which absorbs ligh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yell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y do water lilies have large leav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o absorb lots of 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o absorb lots of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o shelter from rai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o catch fl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 which conditions will cress seeds not grow at a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da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cold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ry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ligh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 which conditions will cress seeds not grow at a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da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cold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ry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6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 which conditions do cress seeds grow yellow, tall and stragg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da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cold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ry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 which conditions do cress seeds grow yellow, tall and stragg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da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cold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ry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25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 which conditions do cress seeds grow green, sturdy and healt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da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cold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ry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 which conditions do cress seeds grow green, sturdy and healt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da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cold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ry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amp, warm and l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25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is the name for the green colouring in plan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chlor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lorofor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chlorophy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is the name for the green colouring in plan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chlor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lorofor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chlorophy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50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at does C</a:t>
            </a:r>
            <a:r>
              <a:rPr b="0" lang="en-GB" sz="5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5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5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mea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star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at does C</a:t>
            </a:r>
            <a:r>
              <a:rPr b="0" lang="en-GB" sz="5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5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5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mea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star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,00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is the name of the food which plants mak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alax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is the name of the food which plants mak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alax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3:35:24Z</dcterms:created>
  <dc:creator>STNG11</dc:creator>
  <dc:description/>
  <dc:language>en-US</dc:language>
  <cp:lastModifiedBy>WinuE</cp:lastModifiedBy>
  <dcterms:modified xsi:type="dcterms:W3CDTF">2009-09-04T20:58:53Z</dcterms:modified>
  <cp:revision>29</cp:revision>
  <dc:subject/>
  <dc:title>Who Wants To Be A Millionaire?</dc:title>
</cp:coreProperties>
</file>